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3BB184F-9CC8-4687-8AAD-4A5AF5356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228-34ED-45FC-9325-696B368D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F08-8FE7-4183-9B4F-7BC68F0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97C-F036-4974-A338-598C1CD1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602-C01A-47F9-9D68-5D6A9E96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560-0407-4E56-A058-40650D65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BC49-DA73-4069-9236-AB25540B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866-AE99-4E07-9D73-E747389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70D-D68C-431F-AADA-ED0C2A2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CABF-A7B6-458E-AAFF-3E3BDB2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E573-0CE6-401A-B310-76822A32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9BBB-0AB9-4F36-B91B-ADE4A72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30D-85EE-4BC0-848B-AA266F16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99D-85FB-40DE-8E24-8B113EB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AC52-84BA-49FF-B659-440BAF4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10D1-C255-4DCF-AA34-FAC252F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CEB2-E3CD-4B5A-BD1D-BC6E0420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4C2-DA6C-4EB0-AA6A-59F2EB13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75E-C96E-4D28-B6DF-6228820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69F-8E2A-487C-9949-8B434A2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243-2022-457E-B910-4CA2ECF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EF4-1438-40B1-8F98-08F54D0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E33-05FE-4C5F-B954-F1C3D04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075-13EF-4B97-9FA0-0037425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7A4-E1A3-416C-94C5-259B3B0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7703-5D84-4A33-B2F9-12E904DC57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C2B-FA31-4A9A-8A89-98200BCA92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600" spc="-1" strike="noStrike">
                <a:solidFill>
                  <a:srgbClr val="ffff99"/>
                </a:solidFill>
                <a:latin typeface="Broadway"/>
              </a:rPr>
              <a:t>Monday, November 8, 2010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Write a conjecture based on the circumstance: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gina has earned an A on each of her last five math exams and has studied hoard for her sixt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3.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allel Lines and Transvers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Lesson 3.3, problems 1-2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200" spc="-1" strike="noStrike">
                <a:solidFill>
                  <a:srgbClr val="ffff99"/>
                </a:solidFill>
                <a:latin typeface="Broadway"/>
              </a:rPr>
              <a:t>Wednesday, November 10, 2010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conjecture based on the circumstance: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e skateboarder has worked a flip into his last 11 ramp competi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3.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Properties of Parallel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Page 149, QUIZ 1, problems 1-4, 6-8, WS 3.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15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Compute angle measures for complementary, supplementary, and vertical ang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Solve angle measures using algebraic relationships created when a transversal intersects parallel 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l Work:  Assignment: Lesson 3.4, problems 1-2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10T19:58:15Z</dcterms:modified>
  <cp:revision>59</cp:revision>
  <dc:subject/>
  <dc:title>Slide 1</dc:title>
</cp:coreProperties>
</file>